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FC4B-DCD5-460C-91C0-54E97800B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CA33-80EF-4FA4-8CC9-49442BA4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FE0E-4E5E-430D-B4F8-9B524C945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2843-7571-4C25-9900-A25530EB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0153-DC00-4DB4-B8B9-638AD20C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5106-C5D5-4A21-AE33-E4C283F5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0164-FEC3-4B1C-86A7-8C9F718B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10A4-DCCA-494D-943F-5B063B5A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51B8-0E59-4E4B-B4F6-7E93D05F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113F-8DCD-4469-9010-A0B05723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0F8E-9599-44EA-ACFA-571BD173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16F9-0161-4108-A60B-6D2D4252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BCFD-6A12-4A99-BC72-28450D700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law.ou.edu/hist/flags/stflagmtwy.shtml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bw/northcarolina.shtml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enchantedlearning.com/usa/states/northcarolina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29400" y="4876920"/>
            <a:ext cx="2514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4952880"/>
            <a:ext cx="2514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x Fitzgera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19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880" y="304920"/>
            <a:ext cx="853452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orth Carolina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4952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56386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562720"/>
            <a:ext cx="3124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rth Carolina State S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4/10/12, www.50stat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00ccff"/>
            </a:gs>
            <a:gs pos="100000">
              <a:srgbClr val="ff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: Rale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: 8,049,3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ed the Union: November 21, 1789 (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to: Esse Quam Verdi-To Be Rather than To S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kname: Tar Heel State, Old North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er: American Dogw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rd: Card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g: The Old North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 Behind Name: Named after Charles IX. Female name for Charles is Caro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ing Facts: Home to Major Colleges such as Duke, University of North Carolina, and North Carolina State. State Gem is the Emerald. The 1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esident Andrew Johnson is from North Carol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5562720"/>
            <a:ext cx="853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5638680"/>
            <a:ext cx="8610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w.ou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s State Flag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21/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law.ou.edu/hist/flags/stflagmtwy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64008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state flag of North Carolina. The colors are red, white and b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80880"/>
            <a:ext cx="7391520" cy="4162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5800" y="4952880"/>
            <a:ext cx="7391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rth Carol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21/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nchantedlearning.com/usa/states/northcarolin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571500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state flag of North Carolina. North Carolina neighbors Tennessee, Virginia, South Carolina, a small part of Georgia, and the Atlantic Oce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685800" y="380880"/>
            <a:ext cx="7772400" cy="4419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62120" y="2743200"/>
            <a:ext cx="88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48006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029200"/>
            <a:ext cx="8001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Fro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right Brothers National Memorial, Kitty Hawk, N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22/2012, http://www.postcardsfrom.com/t1/000310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60958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ostcard of the memorial for the Wright Brothers. The Wright Brothers were the first people to ever fly a pl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Cardinal"/>
          <p:cNvPicPr/>
          <p:nvPr/>
        </p:nvPicPr>
        <p:blipFill>
          <a:blip r:embed="rId1"/>
          <a:stretch/>
        </p:blipFill>
        <p:spPr>
          <a:xfrm>
            <a:off x="457200" y="312840"/>
            <a:ext cx="3581280" cy="3402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0880" y="3962520"/>
            <a:ext cx="36576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irds of America, The Cardinal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22/12, http://www.50states.com/flower/northcarolina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267080" y="304920"/>
            <a:ext cx="4267440" cy="3429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800600" y="4038480"/>
            <a:ext cx="37339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rth Carolina State Flo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22/12, http://www.50states.com/flower/northcarolina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5979960"/>
            <a:ext cx="396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6386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state bird, The Card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57913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state flower, American Dogw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16:34Z</dcterms:created>
  <dc:creator>install</dc:creator>
  <dc:description/>
  <dc:language>en-US</dc:language>
  <cp:lastModifiedBy>install</cp:lastModifiedBy>
  <dcterms:modified xsi:type="dcterms:W3CDTF">2012-04-16T13:04:42Z</dcterms:modified>
  <cp:revision>11</cp:revision>
  <dc:subject/>
  <dc:title>Slide 1</dc:title>
</cp:coreProperties>
</file>